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6758E9-C8DA-46BD-8AEC-13895280B08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B11-0CCE-455C-B0A8-50F7ACE2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A59-60E9-4F3B-AED9-3FBCE5C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80F-3895-4204-84B2-61A30371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3E8-4B98-4F12-8187-B33A9E1F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CC1A-1251-4959-9254-3CABA910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7F8E-E7F2-4FF4-B749-5A74E521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C28C-1AB5-4044-9C54-15C7535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E6D2-503E-4348-9090-88E9DDE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D064-D617-466D-BAA2-A7941A9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301B-ED36-4442-8029-2702C607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AF87-0B7A-4526-8FC2-389DFFE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E58-7985-4541-A6B2-1F47413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3F0-8D52-4345-8D8A-F9CA341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D4C6-FF00-41C5-8C58-A6F98D3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58CC-E130-411C-ACD1-4FDBD028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48C7-D309-4BA3-B3F6-20F81F79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73D-D773-4251-A278-0FC7783E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E29-DD98-4166-878D-387A58B9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A2A-F6EA-4775-A1D5-69D2AC0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F7F-0E59-41EA-A6FD-95E1D270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CDF-81ED-47C8-A4CF-8DE85C8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288-BD66-4572-AF1F-27C81E8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28B-5F75-4825-8EB4-4D4A315C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696-CB01-4FB3-B3A1-1CC6F47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1B7-7930-4FD0-A7D6-14493788D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5E6-D32C-4586-917D-FE9E9FC18B21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br>
              <a:rPr sz="3600"/>
            </a:b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(mapping onto a smaller space of latent concep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53760" indent="-2512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ince we are interested in doc/q correlation, we conside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1680" indent="-30168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and Q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53760" indent="-25128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, so ge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53760" indent="-25128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fa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k x m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53760" indent="-2512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ays the role of A, its columns are the projected docs, he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enough to multiply Q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get the projected query, O(km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1680" indent="-301680">
              <a:lnSpc>
                <a:spcPct val="90000"/>
              </a:lnSpc>
              <a:spcBef>
                <a:spcPts val="1925"/>
              </a:spcBef>
              <a:spcAft>
                <a:spcPts val="55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Lucida Sans"/>
              </a:rPr>
              <a:t>Cost of sim(q,d), for all d, is O(kn+km) instead of O(m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R,P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row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k x m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enote it by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, whose size is </a:t>
            </a:r>
            <a:r>
              <a:rPr b="0" i="1" lang="en-US" sz="2500" spc="-1" strike="noStrike">
                <a:solidFill>
                  <a:srgbClr val="000000"/>
                </a:solidFill>
                <a:latin typeface="Lucida Sans"/>
              </a:rPr>
              <a:t>m = #term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[i] = strength of association between c-th concept and i-th term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5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0">
              <a:spcBef>
                <a:spcPts val="17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79280" y="2924280"/>
            <a:ext cx="8569440" cy="172872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0" t="30615" r="0" b="0"/>
          <a:stretch/>
        </p:blipFill>
        <p:spPr>
          <a:xfrm>
            <a:off x="468360" y="2924280"/>
            <a:ext cx="8064360" cy="244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2"/>
          <p:cNvGrpSpPr/>
          <p:nvPr/>
        </p:nvGrpSpPr>
        <p:grpSpPr>
          <a:xfrm>
            <a:off x="2808360" y="5516640"/>
            <a:ext cx="2802600" cy="1233000"/>
            <a:chOff x="2808360" y="5516640"/>
            <a:chExt cx="2802600" cy="1233000"/>
          </a:xfrm>
        </p:grpSpPr>
        <p:sp>
          <p:nvSpPr>
            <p:cNvPr id="192" name="AutoShape 8"/>
            <p:cNvSpPr/>
            <p:nvPr/>
          </p:nvSpPr>
          <p:spPr>
            <a:xfrm>
              <a:off x="2808360" y="5589360"/>
              <a:ext cx="1150920" cy="1080720"/>
            </a:xfrm>
            <a:prstGeom prst="rightArrow">
              <a:avLst>
                <a:gd name="adj1" fmla="val 50000"/>
                <a:gd name="adj2" fmla="val 2662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4217040" y="5516640"/>
              <a:ext cx="1393920" cy="12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4" name="Rectangle 3"/>
          <p:cNvSpPr/>
          <p:nvPr/>
        </p:nvSpPr>
        <p:spPr>
          <a:xfrm>
            <a:off x="539640" y="1608120"/>
            <a:ext cx="799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R 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o be a random m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the components are independent random variables with one of the following distribu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m, so it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71680" y="3564720"/>
            <a:ext cx="79912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now good libraries ind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5580000" y="345600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tent Semantic Analysi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Lucida Sans"/>
              </a:rPr>
              <a:t>Latent semantic spa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illustrating examp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55640" y="2757600"/>
            <a:ext cx="7677000" cy="3082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790960" y="5840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urtesy of Susan Duma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8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17"/>
          <p:cNvGrpSpPr/>
          <p:nvPr/>
        </p:nvGrpSpPr>
        <p:grpSpPr>
          <a:xfrm>
            <a:off x="2700360" y="4581360"/>
            <a:ext cx="4247640" cy="1726920"/>
            <a:chOff x="2700360" y="4581360"/>
            <a:chExt cx="4247640" cy="1726920"/>
          </a:xfrm>
        </p:grpSpPr>
        <p:pic>
          <p:nvPicPr>
            <p:cNvPr id="105" name="Picture 18" descr="txp_fig"/>
            <p:cNvPicPr/>
            <p:nvPr/>
          </p:nvPicPr>
          <p:blipFill>
            <a:blip r:embed="rId1"/>
            <a:stretch/>
          </p:blipFill>
          <p:spPr>
            <a:xfrm>
              <a:off x="2824920" y="5382360"/>
              <a:ext cx="4000680" cy="8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19"/>
            <p:cNvSpPr/>
            <p:nvPr/>
          </p:nvSpPr>
          <p:spPr>
            <a:xfrm>
              <a:off x="3167640" y="4581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2700360" y="4581360"/>
              <a:ext cx="42476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P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03360" y="618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21520" y="59864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8"/>
          <p:cNvSpPr/>
          <p:nvPr/>
        </p:nvSpPr>
        <p:spPr>
          <a:xfrm>
            <a:off x="5219640" y="49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1476360" y="198108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108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132080" y="5025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257800" y="4898880"/>
            <a:ext cx="52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651000" y="49068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5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36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40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6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47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0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51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4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5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56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0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61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1-25T14:27:07Z</dcterms:modified>
  <cp:revision>1202</cp:revision>
  <dc:subject/>
  <dc:title>Web Algorithmics</dc:title>
</cp:coreProperties>
</file>